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9.jpeg" ContentType="image/jpeg"/>
  <Override PartName="/ppt/media/image3.pct" ContentType="image/x-pict"/>
  <Override PartName="/ppt/media/image12.pct" ContentType="image/x-pict"/>
  <Override PartName="/ppt/media/image17.jpeg" ContentType="image/jpeg"/>
  <Override PartName="/ppt/media/image6.pct" ContentType="image/x-pict"/>
  <Override PartName="/ppt/media/image11.pct" ContentType="image/x-pict"/>
  <Override PartName="/ppt/media/image16.jpeg" ContentType="image/jpeg"/>
  <Override PartName="/ppt/media/image15.pct" ContentType="image/x-pict"/>
  <Override PartName="/ppt/media/image14.gif" ContentType="image/gif"/>
  <Override PartName="/ppt/media/image1.pct" ContentType="image/x-pict"/>
  <Override PartName="/ppt/media/image8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BD9E2E-ADFB-45E9-9EEA-31D628B6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screenshots to make the tutorial easy to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ider putting these in a duotang and leaving a copy at the front desk for when you are not wor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questions always come up or something needs to be re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motion is really important – if people don’t know what you’re here for how can you possibly help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wsletter: can have neat links of all sorts, seasonal link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nture outside b/c not everybody is a big reader and may not see your posters 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008-C184-4737-849B-81749485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EDE-4338-4CE4-878F-B44E5E5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221-4BF6-4DAB-B17D-6AAC9BB7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A47-15E6-484E-9BDC-FBF0DD7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F16A-3F23-4CB7-BC89-BAB8836A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44D-5B96-4D6A-9C78-29E4AF9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7AD2-C342-40A5-B0E1-6FE49DC7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31F-F9B1-4CCB-BCA7-A57391B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A148-2453-4424-8FF7-BA88E88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61D-D28F-4AC0-BBB3-9C55235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283-4627-4962-BD9F-26F2D91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0F7-8DD5-4A85-9952-A64A6F0C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5284-53C5-4BB6-970F-82F54D1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A297-A53C-4889-B182-0E7D2A9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FC6A-D57E-4E7E-ABED-DE1E09D1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537-C550-4322-B9A6-4118F874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0D36-BB45-49AA-969E-9D46984A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8DD-6663-4299-B478-C0894767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1FA-628F-4E8E-B90E-2A67CF65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FB9-E391-4D00-A6C5-68B1249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2CF-D26A-45E8-955E-DA080108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777-D29C-441C-8E5D-5D080B1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DB4-0737-43B5-AB94-3A0C3D1C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066-3928-4410-8C02-D39BD08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57D-85BA-49D0-BBCC-2FAFCE520F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1382-DC8A-46D2-B8CF-0BC96E087F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pstats.ocl.net/cgi-bin/yabb2/YaBB.pl" TargetMode="External"/><Relationship Id="rId2" Type="http://schemas.openxmlformats.org/officeDocument/2006/relationships/hyperlink" Target="http://www.youthontario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5715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ksa Berzinis and Jennifer L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2763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people are very nervous the first time they use a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make them feel more comfortable and never assume that they know how to do some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31590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ke Lessons More Comfortab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ns may already be feeling uncomfortable coming in to learn about something they no very little or nothing about... Like compu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low the patron to feel more comfortable if you allow and encourage them to bring a friend along with them to their training session to learn together in a very friendly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it Simpl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many of the patrons that come in for computer training are not that familiar with computers to begin with, using computer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.e. icon, desktop, application, word processor etc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ead explain what each new term means while using it to make the patron more comfortable with the computer “lingo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29000" y="4971960"/>
            <a:ext cx="2133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ng that hinders most new users is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2895480"/>
            <a:ext cx="4419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atient and show the user how to hold the mouse. Some will try to “hover” with it and others will hold on to it for dea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different buttons ar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See MouseRobics for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d’s Pl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hildren’s lessons fun &amp; not too ri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ve a plan, but tailor it for the specific chil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as educational as possible without overwhelming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lk to the parents to see what the child needs to kno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3208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ni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get frustrated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especially patient with them &amp; give them time to let things absor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 to enjoy taking out computer books and reading until they are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181764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4572000"/>
            <a:ext cx="6019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ook Sug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t’s Never Too Late to Love a Computer” by Abby St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making printed tutorials for patrons to take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visual learners an easy way to re-do and review step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ef, to the point, no unrequired infor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798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sson Pla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one on one or group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experience varies, you will rarely be able to stick to the plan 10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258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lpful Sites for Creating Tutorials and Lesson Plan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bcschools.net/staff/MicrosoftOffic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icrosoft Office 2000 tutorials, great for all skill lev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fgcu.edu/support/office2000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ore Microsoft Office 2000 tutorials - also great for all skill lev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download.com/3001-2102_4-10441206.html?idl=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ownload a free trial, great for beginners getting to know the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kls.org/~crippel/computerlab/tutorials/mouse/page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seRobics – a website that is great to familiarize beginners with themou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redom: Not an O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AP worker, chances are you won’t get bored… but here are some suggestions in case yo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an open house or drop in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ze yourself with libr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yourself (re)orga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ore promotion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me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ome hand outs promoting internet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your supervisor where you should be head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62920" y="2743200"/>
            <a:ext cx="1447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lcome to CAP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ricks and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429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ing Mater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r your library’s computer section to get an idea of what might be helpful to pa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books are outdated, but that’s okay because a lot of “newbies” buy secondhand systems that may run Windows 98/2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3080" y="4595760"/>
            <a:ext cx="2286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a lot during CAP, and if you need any help do not hesitate to ask your fellow CAPpers, your supervisor, or your 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ok forward to working with yo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2562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 You Have 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gin County is in CAP Network 15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AP message board is located at </a:t>
            </a: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capstats.ocl.net/cgi-bin/yabb2/YaBB.p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of the most informative CAP sites is </a:t>
            </a: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youthontario.ne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r network’s old site can be found at www.geocities.com/capnet15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our RC: What to Send Th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a written report each week to your 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a monthly statistics report at the end of each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your promotional materials need to be sent to your R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our RC: What they 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helps make sure that everyone in the region is staying on track and getting in their statistics &amp;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will try their best to help you out of any sticky situation (training question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you with any hardware problems. Those need to go to the County’s IT depar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motional materials must be approved by your supervisor before you share them with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hat your services ar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wsletter with neat links and relevant information to your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outside your library. Posters at the post office, grocery store, etc, will attrac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lpful H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have patience when working with a pa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self bu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touch with other CA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62840" y="1143000"/>
            <a:ext cx="1181160" cy="204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to Contact Other CAP Worker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mail.elgin-county.on.ca/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library.elgin-county.on.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“Branches” and then “Location” and you will find the phone numbers for each bran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ful Thi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pl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folders, duotangs, binders, di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½” disks, CD-RWs, or a USB drive to save your data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1581120" cy="183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33920" y="4800600"/>
            <a:ext cx="1815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21:03:24Z</dcterms:created>
  <dc:creator>User</dc:creator>
  <dc:description/>
  <dc:language>en-US</dc:language>
  <cp:lastModifiedBy>Jennifer Marriott</cp:lastModifiedBy>
  <dcterms:modified xsi:type="dcterms:W3CDTF">2009-01-15T15:05:45Z</dcterms:modified>
  <cp:revision>19</cp:revision>
  <dc:subject/>
  <dc:title>CAP Orientation</dc:title>
</cp:coreProperties>
</file>